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AE9-B713-44DC-82AF-5A3C6CF3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05C-E00B-40DD-9C6C-39E1D26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A1F-3E43-4C2D-AF70-B02A3AE9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520-3B5A-486E-976D-C7A0ED0E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B9D-E9A9-4347-9E63-0CED2450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367-14C4-4303-8A38-02501DD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C88-F1D5-4BB6-BBB1-A5AF4B3A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3FF-99C7-4B8C-BF61-8AB744B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4B5-5B7E-400B-846C-609D5D8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AD3-E6DC-4602-B787-AC89CBF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5EF-FFED-4DC1-AAA0-97D4913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BBD-FC90-4529-A760-3BB83FF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74A4-F2B9-4AAD-A61F-D3DF8FCF0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90600">
            <a:off x="1066680" y="533160"/>
            <a:ext cx="76964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 I I T O R U L    M E U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Î N C E P E     A Z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DESENAŢI UN OBIECT </a:t>
            </a: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SPECIFIC </a:t>
            </a: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PROFESIEI ALE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1676520"/>
            <a:ext cx="7620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UNOAŞTEŢI PROFESIA COLEGULUI </a:t>
            </a:r>
            <a:endParaRPr b="0" lang="en-US" sz="3200" spc="1" strike="noStrike">
              <a:ln w="12600">
                <a:solidFill>
                  <a:srgbClr val="33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PĂ DESENUL EFECTUAT</a:t>
            </a:r>
            <a:endParaRPr b="0" lang="en-US" sz="3200" spc="1" strike="noStrike">
              <a:ln w="12600">
                <a:solidFill>
                  <a:srgbClr val="33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4678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redeţi că este alegerea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a mai bună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10666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-aţi gândit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e condiţii sunt necesare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ntru alegerea  şi însuşirea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ei profesii ?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8640" y="457200"/>
            <a:ext cx="868536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33cc"/>
                </a:solidFill>
                <a:latin typeface="Arial"/>
              </a:rPr>
              <a:t>Condiţii fundamentale pentru orice profesi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REALIT</a:t>
            </a:r>
            <a:r>
              <a:rPr b="1" lang="ro-RO" sz="3200" spc="-1" strike="noStrike">
                <a:solidFill>
                  <a:srgbClr val="cc00cc"/>
                </a:solidFill>
                <a:latin typeface="Arial"/>
              </a:rPr>
              <a:t>ĂŢI ECONOMICO-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INSTRUIRE TEORETICĂ ŞI PRACTICĂ ÎN DIFERITE FORME DE ÎNVĂŢĂMÂ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INTERESE ŞI APTITUD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8288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Arial"/>
              </a:rPr>
              <a:t>REALITA</a:t>
            </a:r>
            <a:r>
              <a:rPr b="1" i="1" lang="ro-RO" sz="5400" spc="-1" strike="noStrike">
                <a:solidFill>
                  <a:srgbClr val="cc00cc"/>
                </a:solidFill>
                <a:latin typeface="Arial"/>
              </a:rPr>
              <a:t>Ţ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cc00cc"/>
                </a:solidFill>
                <a:latin typeface="Arial"/>
              </a:rPr>
              <a:t>ECONOMICO-SOCI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03040"/>
            <a:ext cx="89154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Care sunt ramur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economice principal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304920"/>
            <a:ext cx="67053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INDUST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TRANSPOR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COMERŢ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FINANŢE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AGRIC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RVICI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TURISM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7621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006600"/>
                </a:solidFill>
                <a:latin typeface="Comic Sans MS"/>
              </a:rPr>
              <a:t>ÎN CE CONST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006600"/>
                </a:solidFill>
                <a:latin typeface="Comic Sans MS"/>
              </a:rPr>
              <a:t>REALITATEA SOCIAL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17880" y="7365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9144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763924"/>
                </a:solidFill>
                <a:latin typeface="Arial"/>
              </a:rPr>
              <a:t>PROFES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009900"/>
                </a:solidFill>
                <a:latin typeface="Arial"/>
              </a:rPr>
              <a:t>DIN DIFERITE DOMENII DE ACTIVITATE: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economi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învăţământ, cercetare, cultură, reli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914400"/>
            <a:ext cx="70866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Cunoaşte-te pe tine însuţi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şi vei cunoaşte întreg universul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 toate forţele sale ascunse!"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060200" y="5181480"/>
            <a:ext cx="64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scripţie pe frontonul templului din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0666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INSTRU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TEORETICĂ ŞI PRACTICĂ</a:t>
            </a: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ÎN DIFERI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FORME DE ÎNVĂŢĂMÂNT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360" y="457200"/>
            <a:ext cx="8999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3300"/>
                </a:solidFill>
                <a:latin typeface="Arial"/>
              </a:rPr>
              <a:t>ENUMERAŢI,</a:t>
            </a:r>
            <a:r>
              <a:rPr b="1" lang="ro-RO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66"/>
                </a:solidFill>
                <a:latin typeface="Arial"/>
              </a:rPr>
              <a:t>ORIENDÂNDU-VĂ DUPĂ PLANŞĂ,</a:t>
            </a:r>
            <a:r>
              <a:rPr b="1" lang="ro-RO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Comic Sans MS"/>
              </a:rPr>
              <a:t>PAŞII NECESARI</a:t>
            </a:r>
            <a:r>
              <a:rPr b="1" lang="ro-RO" sz="4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ÎN DOBÂNDI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PROFESIEI DO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-2286360"/>
            <a:ext cx="8534520" cy="9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9999"/>
                </a:solidFill>
                <a:latin typeface="Arial"/>
              </a:rPr>
              <a:t>INTER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9900"/>
                </a:solidFill>
                <a:latin typeface="Arial"/>
              </a:rPr>
              <a:t>Ş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33cc"/>
                </a:solidFill>
                <a:latin typeface="Arial"/>
              </a:rPr>
              <a:t>APTITUDIN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0880"/>
            <a:ext cx="868680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Interesu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este orientarea conştientă către ceva: un lucru, o persoană, o profesie, adic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ceea ce vreau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3818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APTITUDINEA</a:t>
            </a:r>
            <a:r>
              <a:rPr b="0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este capacitatea de o realiza o activitate cu cel mai bun rezultat, adic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o-RO" sz="5400" spc="-1" strike="noStrike">
                <a:solidFill>
                  <a:srgbClr val="cc3300"/>
                </a:solidFill>
                <a:latin typeface="Arial"/>
              </a:rPr>
              <a:t>ceea ce pot</a:t>
            </a: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 să fac cel mai bin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6600"/>
                </a:solidFill>
                <a:latin typeface="Arial"/>
              </a:rPr>
              <a:t>INTELIGENŢ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(ca aptitudine generală)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6600"/>
                </a:solidFill>
                <a:latin typeface="Arial"/>
              </a:rPr>
              <a:t>este capacitatea mintală de a rezolva corect şi rapid problemele noi</a:t>
            </a: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3520" y="144792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IGENŢELE MULTIPL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3087720" y="449568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(după Gardn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7162560" cy="579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2133720"/>
            <a:ext cx="2895840" cy="228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TELIGEN</a:t>
            </a: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ŢELE</a:t>
            </a:r>
            <a:r>
              <a:rPr b="1" lang="ro-RO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33760" y="914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04760" y="4038480"/>
            <a:ext cx="1523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85800"/>
            <a:ext cx="6098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88620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971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990720" y="2971800"/>
            <a:ext cx="2133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708120"/>
            <a:ext cx="21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lingvis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8160" y="1752480"/>
            <a:ext cx="2139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matemat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8040" y="182880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Intr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person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960" y="312408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00"/>
                </a:solidFill>
                <a:latin typeface="Arial"/>
              </a:rPr>
              <a:t>Int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00"/>
                </a:solidFill>
                <a:latin typeface="Arial"/>
              </a:rPr>
              <a:t>person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960" y="45720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9900"/>
                </a:solidFill>
                <a:latin typeface="Arial"/>
              </a:rPr>
              <a:t>Muzic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724280"/>
            <a:ext cx="21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cc"/>
                </a:solidFill>
                <a:latin typeface="Arial"/>
              </a:rPr>
              <a:t>Spaţi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4760" y="3200400"/>
            <a:ext cx="2297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9933"/>
                </a:solidFill>
                <a:latin typeface="Arial"/>
              </a:rPr>
              <a:t>Fi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9933"/>
                </a:solidFill>
                <a:latin typeface="Arial"/>
              </a:rPr>
              <a:t>chinestez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30204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cc00"/>
                </a:solidFill>
                <a:latin typeface="Arial"/>
              </a:rPr>
              <a:t>MINI</a:t>
            </a:r>
            <a:r>
              <a:rPr b="1" lang="fr-FR" sz="5400" spc="-1" strike="noStrike">
                <a:solidFill>
                  <a:srgbClr val="00cc00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66"/>
                </a:solidFill>
                <a:latin typeface="Arial"/>
              </a:rPr>
              <a:t>pentru identificare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993300"/>
                </a:solidFill>
                <a:latin typeface="Arial"/>
              </a:rPr>
              <a:t>tipului de inteligenţ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62485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790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066680"/>
            <a:ext cx="86868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33"/>
                </a:solidFill>
                <a:latin typeface="Arial Black"/>
              </a:rPr>
              <a:t>Elevii trebu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O1 - să-şi formeze şi să-şi dezvol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capacităţi de autocunaoştere pent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a înţelege raportul dint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1" i="1" lang="ro-RO" sz="3600" spc="-1" strike="noStrike">
                <a:solidFill>
                  <a:srgbClr val="990033"/>
                </a:solidFill>
                <a:latin typeface="Comic Sans MS"/>
              </a:rPr>
              <a:t>ce-mi place” şi “ce pot fa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Comic Sans MS"/>
              </a:rPr>
              <a:t>O2 - să manifeste interes faţă  de propriul vii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5050"/>
                </a:solidFill>
                <a:latin typeface="Comic Sans MS"/>
              </a:rPr>
              <a:t>O3 - să-şi aleagă o meserie potrivită în funcţie de interese, aptitudini şi reali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95480" y="380880"/>
            <a:ext cx="2800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BIECTIV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30456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Repartizarea întrebărilor pe tipuri de inteligenţă: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Interpersonală:  întrebările 1 ş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- Intrapersonală: 3 şi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- Verbal – lingvistică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Logic-matematică: 6 şi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Spaţială: 8 şi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Fizic-chinestezică: 10 şi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Muzicală: 12 şi 13</a:t>
            </a: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66680" y="1523880"/>
            <a:ext cx="7010640" cy="354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ificarea activităţilor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în funcţie de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igenţele multipl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8480" y="609480"/>
            <a:ext cx="623088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66"/>
                </a:solidFill>
                <a:latin typeface="Arial"/>
              </a:rPr>
              <a:t>Verbal –lingvistic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333399"/>
                </a:solidFill>
                <a:latin typeface="Arial"/>
              </a:rPr>
              <a:t>Creaţie şi receptivitate literar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990000"/>
                </a:solidFill>
                <a:latin typeface="Arial"/>
              </a:rPr>
              <a:t>Jurn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Re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990000"/>
                </a:solidFill>
                <a:latin typeface="Arial"/>
              </a:rPr>
              <a:t>Scri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O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53352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9900"/>
                </a:solidFill>
                <a:latin typeface="Arial"/>
              </a:rPr>
              <a:t>2. Logic-matema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cc3300"/>
                </a:solidFill>
                <a:latin typeface="Arial"/>
              </a:rPr>
              <a:t>Econom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Ing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333399"/>
                </a:solidFill>
                <a:latin typeface="Arial"/>
              </a:rPr>
              <a:t>Om de afac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914400"/>
            <a:ext cx="7086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3. Spaţi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333399"/>
                </a:solidFill>
                <a:latin typeface="Arial"/>
              </a:rPr>
              <a:t>Constr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5050"/>
                </a:solidFill>
                <a:latin typeface="Arial"/>
              </a:rPr>
              <a:t>Dec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9999"/>
                </a:solidFill>
                <a:latin typeface="Arial"/>
              </a:rPr>
              <a:t>Arhit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0492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. Fizic-chinestez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ro-RO" sz="4000" spc="-1" strike="noStrike">
                <a:solidFill>
                  <a:srgbClr val="009900"/>
                </a:solidFill>
                <a:latin typeface="Arial"/>
              </a:rPr>
              <a:t>discipline spor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Meserii:</a:t>
            </a:r>
            <a:r>
              <a:rPr b="1" i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şofer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marinar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3399"/>
                </a:solidFill>
                <a:latin typeface="Arial"/>
              </a:rPr>
              <a:t>mecanic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agricul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533520"/>
            <a:ext cx="6934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ff"/>
                </a:solidFill>
                <a:latin typeface="Arial"/>
              </a:rPr>
              <a:t>5. Muzic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Compoz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Interp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Dirij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12960" y="146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74760"/>
            <a:ext cx="792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6633"/>
                </a:solidFill>
                <a:latin typeface="Arial"/>
              </a:rPr>
              <a:t>6. Interperson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Pri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Dir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66ff66"/>
                </a:solidFill>
                <a:latin typeface="Arial"/>
              </a:rPr>
              <a:t>Ambas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Minis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84400" y="907920"/>
            <a:ext cx="5097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3300"/>
                </a:solidFill>
                <a:latin typeface="Arial"/>
              </a:rPr>
              <a:t>7. Intrapersonal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Psiho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Pre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6600"/>
                </a:solidFill>
                <a:latin typeface="Arial"/>
              </a:rPr>
              <a:t>Profesor-dirig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676520"/>
            <a:ext cx="8458200" cy="25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ÎN    CONCLUZIE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153280" cy="87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cc6600"/>
                </a:solidFill>
                <a:latin typeface="Arial"/>
              </a:rPr>
              <a:t>Alegeţi din această listă trei din cele mai importante realizări din viaţa unui om:</a:t>
            </a:r>
            <a:br>
              <a:rPr sz="3600"/>
            </a:b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familia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ff9966"/>
                </a:solidFill>
                <a:latin typeface="Arial"/>
              </a:rPr>
              <a:t>funcţiile de con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333399"/>
                </a:solidFill>
                <a:latin typeface="Arial"/>
              </a:rPr>
              <a:t>prietenia </a:t>
            </a: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d60093"/>
                </a:solidFill>
                <a:latin typeface="Arial"/>
              </a:rPr>
              <a:t>călători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993300"/>
                </a:solidFill>
                <a:latin typeface="Arial"/>
              </a:rPr>
              <a:t>profe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339966"/>
                </a:solidFill>
                <a:latin typeface="Arial"/>
              </a:rPr>
              <a:t>ban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respectul semen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383400">
            <a:off x="1001520" y="757080"/>
            <a:ext cx="7684920" cy="41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 uşor să-ţi aleg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fesia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76212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 Black"/>
              </a:rPr>
              <a:t>NU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990000"/>
                </a:solidFill>
                <a:latin typeface="Arial"/>
              </a:rPr>
              <a:t>pentru că interv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cc0066"/>
                </a:solidFill>
                <a:latin typeface="Arial"/>
              </a:rPr>
              <a:t>mai mulţi factor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0320" y="228600"/>
            <a:ext cx="909324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ff0000"/>
                </a:solidFill>
                <a:latin typeface="Comic Sans MS"/>
              </a:rPr>
              <a:t>Factorii  economico-sociali</a:t>
            </a:r>
            <a:r>
              <a:rPr b="1" i="1" lang="ro-RO" sz="54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000099"/>
                </a:solidFill>
                <a:latin typeface="Comic Sans MS"/>
              </a:rPr>
              <a:t>Interesele şi aptitudin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cc3300"/>
                </a:solidFill>
                <a:latin typeface="Comic Sans MS"/>
              </a:rPr>
              <a:t>Şco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5400" spc="-1" strike="noStrike">
                <a:solidFill>
                  <a:srgbClr val="ff9900"/>
                </a:solidFill>
                <a:latin typeface="Comic Sans MS"/>
              </a:rPr>
              <a:t>Influenţa familie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4400" spc="-1" strike="noStrike">
                <a:solidFill>
                  <a:srgbClr val="009999"/>
                </a:solidFill>
                <a:latin typeface="Comic Sans MS"/>
              </a:rPr>
              <a:t>Satisfacţia dată de profe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5400" spc="-1" strike="noStrike">
                <a:solidFill>
                  <a:srgbClr val="990099"/>
                </a:solidFill>
                <a:latin typeface="Comic Sans MS"/>
              </a:rPr>
              <a:t>Condiţiile materi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buClr>
                <a:srgbClr val="99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3818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edeţi că alegerea profesie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te definitivă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11960" y="0"/>
            <a:ext cx="9882720" cy="9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990099"/>
                </a:solidFill>
                <a:latin typeface="Comic Sans MS"/>
              </a:rPr>
              <a:t>Etapele alegerii profesiunii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(după Gins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Etapa fanteziei: </a:t>
            </a: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6 – 11 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Etapa încercărilor: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12 – 18 ani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99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interesele şi aptitudin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3. Etapa realistă: după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18 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99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acordul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intereselor şi aptitudin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cu realităţile economico-soci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ce vreau, ce pot şi ce este posib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2133720"/>
            <a:ext cx="6934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MAGINI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PREZENTÂND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FERITE PROFES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79440"/>
            <a:ext cx="4114800" cy="3517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9960" y="533520"/>
            <a:ext cx="561492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6102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1721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1066680"/>
            <a:ext cx="8963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e dintre aceste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te esenţială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ntru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itorul vostru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60560" y="762120"/>
            <a:ext cx="477504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71920" y="762120"/>
            <a:ext cx="314784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525780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343400" cy="427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876920" cy="390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914400"/>
            <a:ext cx="354168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412596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92360" y="457200"/>
            <a:ext cx="54705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6858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Înainte de a zice 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i a începe ceva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ândeşte-te  bine; 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121932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 R O F E S I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-228600" y="457200"/>
            <a:ext cx="937260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ăci după ce ai zis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 vorbă ori ai început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 faptă nu mai este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în puterea ta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 a o mai lua înapoi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7000" y="5334120"/>
            <a:ext cx="59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Epictet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ragm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8040" y="1143000"/>
            <a:ext cx="176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255680"/>
            <a:ext cx="26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6400" y="1523880"/>
            <a:ext cx="69912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E ÎNŢELEGEŢ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 PROFESIE 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343800">
            <a:off x="1314000" y="1066320"/>
            <a:ext cx="600084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FESIE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CUPAŢ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SE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ÎNDELETNICIRE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762120"/>
            <a:ext cx="7010640" cy="42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V-aţi gândi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a viitoarea voastr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profesi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7:19:47Z</dcterms:created>
  <dc:creator>user</dc:creator>
  <dc:description/>
  <dc:language>en-US</dc:language>
  <cp:lastModifiedBy>vio</cp:lastModifiedBy>
  <dcterms:modified xsi:type="dcterms:W3CDTF">2007-04-26T13:51:23Z</dcterms:modified>
  <cp:revision>33</cp:revision>
  <dc:subject/>
  <dc:title>Diapozitivul 1</dc:title>
</cp:coreProperties>
</file>